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707-AB72-46A6-8C11-F178FB46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B48-0D60-411A-8D20-A700D0A2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D4C-D2D9-4C9E-A4FD-2A732727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F58-18A8-4199-83C8-AD1AE9B4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34B7-D90F-40D8-BC92-53375BCD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5CA-5E16-4059-B627-3E26C5D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E537-01F2-4F6D-834A-17ABA3C0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8B96-6A5C-4781-9012-6DBEB0C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3BBB-4244-4847-A3AA-183FAE9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EE3E-C628-4F48-BBB4-8F6A00FF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783D-2F7A-4231-82FA-C16FEB3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AFA-0693-4651-B9D6-2B0AB6A5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3BA-FE34-401C-9780-A74826D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0C4B-D89D-466D-AC48-2F7C87F6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5358-BC7B-4041-B85E-65EC9A6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88E5-7919-44DC-AC62-C3458B5C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892B-4B99-4B3C-9A9C-120C30B4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6A4-990E-4C45-9039-448A7A56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673-A510-4C3B-9624-E08B6333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B9B-74B9-46F9-917A-F9E7F8D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701-9BF8-47A4-85FE-2F72910D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B2E-4521-4B25-9813-C6FB860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8CA-A1DE-4EA8-A907-0253D9D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58B-2C57-49CE-B4E1-194F38F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DB30-7894-4A79-A12D-C0F7C128D1D8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C81-53C4-4C97-A805-1D05985F3774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ttonclassroom.com/videoofcottonbeingcleaned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6665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re technological improvements always good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nder Pressu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n their first day, slaves were often tes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ck and clean cotton while being watch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08560" y="2133720"/>
            <a:ext cx="3059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li Whitney’s Next Big Th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798 - accepted offer from Thomas Jefferson to make rifles for arm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nted 10,000-15,000 rifles in two yea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t how??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2319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struction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ch paper must hav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LUE squ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LACK triang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 circ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PLE stick fig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ded in ha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cked in a neat pi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nterchangeable Part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itney used interchangeable parts to create the guns fas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ch person has specific tas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gether they are assembled into a gu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viously everything was done individually, but now it was assembly lin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ne BAD Example…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58672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tton Gi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i Whitney - 179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reased demand for cott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xtile mills in Europe and in the Nor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CH faster than by h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35053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2590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Cotton the “fabric of our lives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809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what if it cost 100x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tton Craziness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1850, cotton prices dropped to 1% of what they cost in 178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86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tton = $191 million ex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/3 of U.S. expo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2589120"/>
            <a:ext cx="38862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ajor Increas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62520" y="3048120"/>
            <a:ext cx="4876560" cy="2824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39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aw Cott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91040" y="2884320"/>
            <a:ext cx="3695760" cy="2459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3886200" cy="258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0720" y="685800"/>
            <a:ext cx="38098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ave's Bumpin' Shiz:Users:Dave:Desktop:Cotton Fields.mov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609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3520" y="25909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http://cottonclassroom.com/videoofcottonbeingcleaned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5:23:55Z</dcterms:created>
  <dc:creator>Dave Moffa</dc:creator>
  <dc:description/>
  <dc:language>en-US</dc:language>
  <cp:lastModifiedBy>Dave Moffa</cp:lastModifiedBy>
  <dcterms:modified xsi:type="dcterms:W3CDTF">2011-01-12T16:28:20Z</dcterms:modified>
  <cp:revision>23</cp:revision>
  <dc:subject/>
  <dc:title>Eli Whitney</dc:title>
</cp:coreProperties>
</file>